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51675" cy="9356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52400" cy="93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528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528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4B39C75-ED0E-432C-8450-D1E7063B9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y out of the 100 and the bridge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teachers from MS and ES levels – PE, Art, Music, Technology, Family and Consume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is presentation relate to them and every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of action – we are taking action – we have talked and develop our understandings about grading and assessment at the secondary level – you have discussed in your departments – now it is time to tak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P student performance and Midterms – formative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Bring your APPR goals and we will refine at the faculty meeting to be 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 of Mind – why we do what 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99528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94DF8DF-572A-4EE6-B0F1-7BE59ADE9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99528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95640" y="8888400"/>
            <a:ext cx="3056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745A78B-38B7-4D09-A884-F7A8AFA00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99528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E04D3BF-5EFC-49A2-8296-8F04F0F3A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9528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95640" y="8888400"/>
            <a:ext cx="3056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A1A9EF3-624C-49F3-A410-6DCBF31FD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99528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B73ACC1-3943-478B-80BB-07987C62F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99528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995640" y="8888400"/>
            <a:ext cx="3056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A48B882-A236-4D86-B906-42CC59C40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99528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CA56BD2-A539-495E-B8A7-3510C0112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9528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95640" y="8888400"/>
            <a:ext cx="3056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EEB6AE-24D9-4466-9B33-8EAACE47F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of action – we are taking action – we have talked and develop our understandings about grading and assessment at the secondary level – you have discussed in your departments – now it is time to tak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P student performance and Midterms – formative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Bring your APPR goals and we will refine at the faculty meeting to be 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 of Mind – why we do what 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community of learners rather than P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about credit acquisition and success in classes – later in the presentaion Benito will review the FSS SMART goals that relates to the four year grad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redit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eachers follow the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 to the special area teachers – every credit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3711-E787-42AE-BC9C-B8288015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D268-CCB1-4A02-BBB1-71FAA71A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A65D-3066-42E5-AC83-AB45F445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52DE-D6FE-499A-94F6-3683AE3A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3F84-5823-49EA-ADB2-55312A4A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4E4-6348-463C-A1C0-F70A90A0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04D9-CE05-4B80-886A-A6C6B539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BEE-B19F-4EDD-9B86-3AF26C77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4F4-F4C3-4615-ABBA-8A313BFB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C989-A840-4AC1-8CF4-432A076E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E65-899B-456D-8C31-E81F077B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72BB-E4E8-409C-99A3-9E6436E8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AD7C-7B1A-4116-9129-346373ECA4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60DF-51FD-4F82-B518-023B04AE7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33720" y="457200"/>
            <a:ext cx="4419360" cy="434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Jester"/>
              </a:rPr>
              <a:t>North Rockland Central School District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Jester"/>
              <a:ea typeface="Jester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19520" y="1143000"/>
          <a:ext cx="302580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143000"/>
                    <a:ext cx="3025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8006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Tempus Sans ITC"/>
              </a:rPr>
              <a:t>Making the GRADE</a:t>
            </a:r>
            <a:br>
              <a:rPr sz="4800"/>
            </a:br>
            <a:r>
              <a:rPr b="0" lang="en-US" sz="4800" spc="-1" strike="noStrike">
                <a:solidFill>
                  <a:srgbClr val="009900"/>
                </a:solidFill>
                <a:latin typeface="Tempus Sans ITC"/>
              </a:rPr>
              <a:t>2009-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41972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952A6-C40E-4201-B950-AE1B90C4FB7D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Awareness Stage </a:t>
            </a:r>
            <a:r>
              <a:rPr b="0" lang="en-US" sz="6000" spc="-1" strike="noStrike">
                <a:solidFill>
                  <a:srgbClr val="008000"/>
                </a:solidFill>
                <a:latin typeface="Tempus Sans ITC"/>
                <a:ea typeface="Arial"/>
              </a:rPr>
              <a:t>→ </a:t>
            </a:r>
            <a:br>
              <a:rPr sz="6000"/>
            </a:br>
            <a:r>
              <a:rPr b="0" lang="en-US" sz="6000" spc="-1" strike="noStrike">
                <a:solidFill>
                  <a:srgbClr val="008000"/>
                </a:solidFill>
                <a:latin typeface="Tempus Sans ITC"/>
                <a:ea typeface="Arial"/>
              </a:rPr>
              <a:t>S</a:t>
            </a: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trategic St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empus Sans ITC"/>
              </a:rPr>
              <a:t>Action Ste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Times New Roman"/>
              </a:rPr>
              <a:t>Progr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evidenc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plishment demonstrate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ward course expec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D04E6-823B-4BE1-9300-A2C24754E3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Awareness Stage </a:t>
            </a:r>
            <a:r>
              <a:rPr b="0" lang="en-US" sz="6000" spc="-1" strike="noStrike">
                <a:solidFill>
                  <a:srgbClr val="008000"/>
                </a:solidFill>
                <a:latin typeface="Tempus Sans ITC"/>
                <a:ea typeface="Arial"/>
              </a:rPr>
              <a:t>→ </a:t>
            </a:r>
            <a:br>
              <a:rPr sz="6000"/>
            </a:br>
            <a:r>
              <a:rPr b="0" lang="en-US" sz="6000" spc="-1" strike="noStrike">
                <a:solidFill>
                  <a:srgbClr val="008000"/>
                </a:solidFill>
                <a:latin typeface="Tempus Sans ITC"/>
                <a:ea typeface="Arial"/>
              </a:rPr>
              <a:t>S</a:t>
            </a: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trategic St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empus Sans ITC"/>
              </a:rPr>
              <a:t>Action Step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Pro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rocesses necessary to achieve the course expec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33791-B441-4CC2-AA40-00DC4844AA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Awareness Stage </a:t>
            </a:r>
            <a:r>
              <a:rPr b="0" lang="en-US" sz="6000" spc="-1" strike="noStrike">
                <a:solidFill>
                  <a:srgbClr val="008000"/>
                </a:solidFill>
                <a:latin typeface="Tempus Sans ITC"/>
                <a:ea typeface="Arial"/>
              </a:rPr>
              <a:t>→ </a:t>
            </a:r>
            <a:br>
              <a:rPr sz="6000"/>
            </a:br>
            <a:r>
              <a:rPr b="0" lang="en-US" sz="6000" spc="-1" strike="noStrike">
                <a:solidFill>
                  <a:srgbClr val="008000"/>
                </a:solidFill>
                <a:latin typeface="Tempus Sans ITC"/>
                <a:ea typeface="Arial"/>
              </a:rPr>
              <a:t>S</a:t>
            </a: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trategic St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empus Sans ITC"/>
              </a:rPr>
              <a:t>Action Step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rad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grad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duct,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progres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If so, how can you determine the value of the evid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1E847-109F-4635-9D3A-F7DF0ACF86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Tempus Sans ITC"/>
              </a:rPr>
              <a:t>Finish Stro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2705040" cy="365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68F13-358A-485D-BBC0-3297FADF18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cc"/>
                </a:solidFill>
                <a:latin typeface="Arial"/>
              </a:rPr>
              <a:t>Fieldstone Secondary School</a:t>
            </a:r>
            <a:br>
              <a:rPr sz="4400"/>
            </a:br>
            <a:r>
              <a:rPr b="0" i="1" lang="en-US" sz="4400" spc="-1" strike="noStrike">
                <a:solidFill>
                  <a:srgbClr val="0000cc"/>
                </a:solidFill>
                <a:latin typeface="Arial"/>
              </a:rPr>
              <a:t>SMART Goals</a:t>
            </a:r>
            <a:br>
              <a:rPr sz="4400"/>
            </a:br>
            <a:r>
              <a:rPr b="0" i="1" lang="en-US" sz="4400" spc="-1" strike="noStrike">
                <a:solidFill>
                  <a:srgbClr val="0000cc"/>
                </a:solidFill>
                <a:latin typeface="Arial"/>
              </a:rPr>
              <a:t>2009-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crease the percentage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th grade stud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ssing all courses by 6 percentage points from 74% in June 2008-2009 to 80% in the 2009-2010 school year, and from 81% in August 2009 to 87% by August 20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09C84-B555-4050-BCD3-DB5CC5A343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empus Sans ITC"/>
              </a:rPr>
              <a:t>FSS – 2010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Tempus Sans ITC"/>
              </a:rPr>
              <a:t>Grade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219320"/>
          <a:ext cx="8381880" cy="4970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79856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tal #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0 stud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3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# of 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1</a:t>
                      </a:r>
                      <a:r>
                        <a:rPr b="0" i="1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 46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2</a:t>
                      </a:r>
                      <a:r>
                        <a:rPr b="0" i="1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)</a:t>
                      </a: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</a:t>
                      </a:r>
                      <a:r>
                        <a:rPr b="0" i="1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 4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% of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1</a:t>
                      </a:r>
                      <a:r>
                        <a:rPr b="0" i="1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 7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2</a:t>
                      </a:r>
                      <a:r>
                        <a:rPr b="0" i="1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)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</a:t>
                      </a:r>
                      <a:r>
                        <a:rPr b="0" i="1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7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CCD5D-DE85-4231-84B9-2AAED89B26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empus Sans ITC"/>
              </a:rPr>
              <a:t>FSS – 2010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Tempus Sans ITC"/>
              </a:rPr>
              <a:t>Grade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143000"/>
          <a:ext cx="8381880" cy="4970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79856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tal #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7 stud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3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# of 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1</a:t>
                      </a:r>
                      <a:r>
                        <a:rPr b="0" i="1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 44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2</a:t>
                      </a:r>
                      <a:r>
                        <a:rPr b="0" i="1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)</a:t>
                      </a: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</a:t>
                      </a:r>
                      <a:r>
                        <a:rPr b="0" i="1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 4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% of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1</a:t>
                      </a:r>
                      <a:r>
                        <a:rPr b="0" i="1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 7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2</a:t>
                      </a:r>
                      <a:r>
                        <a:rPr b="0" i="1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)6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</a:t>
                      </a:r>
                      <a:r>
                        <a:rPr b="0" i="1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6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7A8B0-A974-4B34-935A-8BC0779D34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NRHS – 2010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Grade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752480"/>
          <a:ext cx="8381880" cy="4970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79856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tal #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55 stud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3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# of 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1</a:t>
                      </a:r>
                      <a:r>
                        <a:rPr b="0" i="1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 45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2</a:t>
                      </a:r>
                      <a:r>
                        <a:rPr b="0" i="1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)</a:t>
                      </a: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</a:t>
                      </a:r>
                      <a:r>
                        <a:rPr b="0" i="1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 4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% of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1</a:t>
                      </a:r>
                      <a:r>
                        <a:rPr b="0" i="1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 6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2</a:t>
                      </a:r>
                      <a:r>
                        <a:rPr b="0" i="1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)6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</a:t>
                      </a:r>
                      <a:r>
                        <a:rPr b="0" i="1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6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90D27-3691-4B94-803F-54E35D9236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NRHS – 2010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Grade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801800"/>
          <a:ext cx="8534520" cy="50562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6280"/>
                <a:gridCol w="1646280"/>
                <a:gridCol w="1949400"/>
              </a:tblGrid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tal #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46 stud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 in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3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# of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 4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) 4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 4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% of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1</a:t>
                      </a:r>
                      <a:r>
                        <a:rPr b="0" i="1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 7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2</a:t>
                      </a:r>
                      <a:r>
                        <a:rPr b="0" i="1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)6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</a:t>
                      </a:r>
                      <a:r>
                        <a:rPr b="0" i="1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7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ECE804-DEFE-4B6B-8CA2-F4A2FD39D1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NRHS 2010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Grade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1600200"/>
          <a:ext cx="8382240" cy="5483160"/>
        </p:xfrm>
        <a:graphic>
          <a:graphicData uri="http://schemas.openxmlformats.org/drawingml/2006/table">
            <a:tbl>
              <a:tblPr/>
              <a:tblGrid>
                <a:gridCol w="1632240"/>
                <a:gridCol w="1630080"/>
                <a:gridCol w="1632240"/>
                <a:gridCol w="1631880"/>
                <a:gridCol w="185580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tal #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74 stud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ed 3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s in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# of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 4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)4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4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% of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1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 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2</a:t>
                      </a:r>
                      <a:r>
                        <a:rPr b="0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)7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7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12967-9282-4241-97C3-A53249A7A5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86200" y="2030400"/>
            <a:ext cx="5257800" cy="4827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empus Sans ITC"/>
              </a:rPr>
              <a:t>Staff Development Day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empus Sans ITC"/>
              </a:rPr>
              <a:t>May 10, 2010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Tempus Sans ITC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590560"/>
            <a:ext cx="5181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i="1" lang="en-US" sz="3600" spc="-1" strike="noStrike">
                <a:solidFill>
                  <a:srgbClr val="008000"/>
                </a:solidFill>
                <a:latin typeface="Tempus Sans ITC"/>
              </a:rPr>
              <a:t>Faculty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Grading an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Finish Strong: Graduation Rate and Class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empus Sans ITC"/>
              </a:rPr>
              <a:t>Department Meeting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empus Sans ITC"/>
              </a:rPr>
              <a:t>Lunch: 11:30 AM – 12:45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20968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3200400"/>
            <a:ext cx="1904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empus Sans ITC"/>
              </a:rPr>
              <a:t>NRH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empus Sans ITC"/>
              </a:rPr>
              <a:t>F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empus Sans ITC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empus Sans ITC"/>
              </a:rPr>
              <a:t>8:30 AM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empus Sans ITC"/>
              </a:rPr>
              <a:t>3:00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D2E1A-DE2C-445D-BB30-77CC94F03008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Tempus Sans ITC"/>
              </a:rPr>
              <a:t>Team Work Session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ction Step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urse Expec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ist fourth quarter course expectations and major requirements for the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den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view list of students who have failed one subjec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to be provided by coordinato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dentify and list students who have failed your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Action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can these students achieve your course expectation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tatus 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mplete status report on each student.  Will the student finish the course in: June 2010, Summer School or repeat nex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390D9-3E94-4D79-AD42-F60FE5E576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empus Sans ITC"/>
              </a:rPr>
              <a:t>Finish Stro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ction Step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Course Expec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fourth quarter course expectations and major requirements for the cou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F197C-F820-45B1-A896-4E272E999C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empus Sans ITC"/>
              </a:rPr>
              <a:t>Finish Stro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ction Step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dent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list of students who have failed one subject.  Identify students who have failed your cours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8750B-F6C1-44D3-A520-D49B3B363A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empus Sans ITC"/>
              </a:rPr>
              <a:t>Finish Stro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ction Step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Action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these students achieve your course expect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AFE52-335B-47B4-8499-2FE1792662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empus Sans ITC"/>
              </a:rPr>
              <a:t>Finish Stro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ction Step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Status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status report on each student.  Will the student finish the course in: June 2010, Summer School or repeat next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18468-FAB6-4626-ABB7-4E114CF870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Staff Development Day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May 10,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cus Ques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do we assess student work in regards to our course expectations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How do you grade student work in your course/class? What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oce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we have in place to lead students towards ou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How do your assessments and grading practices assist students in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progr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ward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o create action plans on assessment practices by course in preparation for the 2010-2011 schoo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y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Prog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7D1C3-BAB9-4636-9BE3-472DDB2597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Rounded Rectangle 7"/>
          <p:cNvGrpSpPr/>
          <p:nvPr/>
        </p:nvGrpSpPr>
        <p:grpSpPr>
          <a:xfrm>
            <a:off x="762120" y="1335240"/>
            <a:ext cx="7238520" cy="5522760"/>
            <a:chOff x="762120" y="1335240"/>
            <a:chExt cx="7238520" cy="5522760"/>
          </a:xfrm>
        </p:grpSpPr>
        <p:pic>
          <p:nvPicPr>
            <p:cNvPr id="107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762120" y="1335240"/>
              <a:ext cx="7238520" cy="55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101960" y="1619280"/>
              <a:ext cx="6555240" cy="49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Title 1"/>
          <p:cNvGrpSpPr/>
          <p:nvPr/>
        </p:nvGrpSpPr>
        <p:grpSpPr>
          <a:xfrm>
            <a:off x="603360" y="146160"/>
            <a:ext cx="7785000" cy="1000080"/>
            <a:chOff x="603360" y="146160"/>
            <a:chExt cx="7785000" cy="1000080"/>
          </a:xfrm>
        </p:grpSpPr>
        <p:pic>
          <p:nvPicPr>
            <p:cNvPr id="110" name="Title 1" descr=""/>
            <p:cNvPicPr/>
            <p:nvPr/>
          </p:nvPicPr>
          <p:blipFill>
            <a:blip r:embed="rId3"/>
            <a:stretch/>
          </p:blipFill>
          <p:spPr>
            <a:xfrm>
              <a:off x="603360" y="146160"/>
              <a:ext cx="7785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09480" y="152280"/>
              <a:ext cx="7772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Teaching and Learning Framework</a:t>
              </a:r>
              <a:br>
                <a:rPr sz="3200"/>
              </a:b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orth Rockland Central School District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br>
                <a:rPr sz="40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3"/>
          <p:cNvSpPr/>
          <p:nvPr/>
        </p:nvSpPr>
        <p:spPr>
          <a:xfrm>
            <a:off x="1905120" y="2057400"/>
            <a:ext cx="2286000" cy="2514600"/>
          </a:xfrm>
          <a:prstGeom prst="ellipse">
            <a:avLst/>
          </a:prstGeom>
          <a:solidFill>
            <a:srgbClr val="f9220b">
              <a:alpha val="8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4114800" y="2057400"/>
            <a:ext cx="2286000" cy="2514600"/>
          </a:xfrm>
          <a:prstGeom prst="ellipse">
            <a:avLst/>
          </a:prstGeom>
          <a:solidFill>
            <a:srgbClr val="ccffff">
              <a:alpha val="5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124080" y="3733920"/>
            <a:ext cx="2286000" cy="2361960"/>
          </a:xfrm>
          <a:prstGeom prst="ellipse">
            <a:avLst/>
          </a:prstGeom>
          <a:solidFill>
            <a:srgbClr val="00b050">
              <a:alpha val="5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tangle 8" descr=""/>
          <p:cNvPicPr/>
          <p:nvPr/>
        </p:nvPicPr>
        <p:blipFill>
          <a:blip r:embed="rId4"/>
          <a:stretch/>
        </p:blipFill>
        <p:spPr>
          <a:xfrm>
            <a:off x="3048120" y="1371600"/>
            <a:ext cx="2743200" cy="762120"/>
          </a:xfrm>
          <a:prstGeom prst="rect">
            <a:avLst/>
          </a:prstGeom>
          <a:ln w="0">
            <a:noFill/>
          </a:ln>
        </p:spPr>
      </p:pic>
      <p:pic>
        <p:nvPicPr>
          <p:cNvPr id="116" name="Rectangle 9" descr=""/>
          <p:cNvPicPr/>
          <p:nvPr/>
        </p:nvPicPr>
        <p:blipFill>
          <a:blip r:embed="rId5"/>
          <a:stretch/>
        </p:blipFill>
        <p:spPr>
          <a:xfrm>
            <a:off x="1143000" y="2286000"/>
            <a:ext cx="749160" cy="304812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10" descr=""/>
          <p:cNvPicPr/>
          <p:nvPr/>
        </p:nvPicPr>
        <p:blipFill>
          <a:blip r:embed="rId6"/>
          <a:stretch/>
        </p:blipFill>
        <p:spPr>
          <a:xfrm>
            <a:off x="6172200" y="2438280"/>
            <a:ext cx="1371600" cy="281952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11" descr=""/>
          <p:cNvPicPr/>
          <p:nvPr/>
        </p:nvPicPr>
        <p:blipFill>
          <a:blip r:embed="rId7"/>
          <a:stretch/>
        </p:blipFill>
        <p:spPr>
          <a:xfrm>
            <a:off x="2209680" y="5562720"/>
            <a:ext cx="4496040" cy="1239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"/>
          <p:cNvSpPr/>
          <p:nvPr/>
        </p:nvSpPr>
        <p:spPr>
          <a:xfrm>
            <a:off x="2133720" y="2296800"/>
            <a:ext cx="17524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Comic Sans MS"/>
                <a:ea typeface="Times New Roman"/>
                <a:hlinkClick r:id="rId8" action="ppaction://hlinksldjump"/>
              </a:rPr>
              <a:t>Academic Excell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4419720" y="2296800"/>
            <a:ext cx="17524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Comic Sans MS"/>
                <a:ea typeface="Times New Roman"/>
                <a:hlinkClick r:id="rId9" action="ppaction://hlinksldjump"/>
              </a:rPr>
              <a:t>Developmental Responsiven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3429000" y="4772880"/>
            <a:ext cx="1752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cial Equ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3809880" y="3576600"/>
            <a:ext cx="1295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905120" y="312336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fferentiated   Instruction &amp; Multiple Measures of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1981080" y="26661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gor &amp; Relevance for the 2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en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4876920" y="27432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lation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4876920" y="3124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3581280" y="49521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ess and Time &amp; Opportunity to Lea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3505320" y="548568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fety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ilience &amp;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2666880"/>
            <a:ext cx="1828800" cy="2057400"/>
          </a:xfrm>
          <a:prstGeom prst="ellipse">
            <a:avLst/>
          </a:prstGeom>
          <a:solidFill>
            <a:srgbClr val="fff6d1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2895480"/>
            <a:ext cx="1676520" cy="27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0fd"/>
                </a:solidFill>
                <a:latin typeface="Comic Sans MS"/>
              </a:rPr>
              <a:t>KEY RESULTS F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0fd"/>
                </a:solidFill>
                <a:latin typeface="Comic Sans MS"/>
              </a:rPr>
              <a:t>NRCSD STUDENTS</a:t>
            </a:r>
            <a:r>
              <a:rPr b="1" lang="en-US" sz="900" spc="-1" strike="noStrike">
                <a:solidFill>
                  <a:srgbClr val="0730fd"/>
                </a:solidFill>
                <a:latin typeface="Comic Sans MS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mic Sans MS"/>
              </a:rPr>
              <a:t>Graduates Demonstrate Skills and Abil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mic Sans MS"/>
              </a:rPr>
              <a:t>for Succes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730f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730fd"/>
                </a:solidFill>
                <a:latin typeface="Comic Sans MS"/>
              </a:rPr>
              <a:t>Effective Communic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730f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730fd"/>
                </a:solidFill>
                <a:latin typeface="Comic Sans MS"/>
              </a:rPr>
              <a:t>Problem Solv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730f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730fd"/>
                </a:solidFill>
                <a:latin typeface="Comic Sans MS"/>
              </a:rPr>
              <a:t>Critical Think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730f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730fd"/>
                </a:solidFill>
                <a:latin typeface="Comic Sans MS"/>
              </a:rPr>
              <a:t>Mutual Self-Respe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730f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730fd"/>
                </a:solidFill>
                <a:latin typeface="Comic Sans MS"/>
              </a:rPr>
              <a:t>Lifelong Learn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6CB09-0A57-4549-A85F-B618FA9ECDB6}" type="datetime1">
              <a:rPr lang="en-US"/>
              <a:t>07/30/26</a:t>
            </a:fld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cademic Excell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igor in the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intain high expectations for all students and sta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gage students in higher order tasks requiring critical th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ptivate students with challenging academic cont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monstrate student proficiency and reach for mastery of all academic content and 21st century sk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vance in the 21st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mphasize the importance of addressing essential questions in all content areas at all grade levels to help students solve complex real world problems and be able to contribute to a global soc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erentiated Instruction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vide all students with opportunities for academic succ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mote student ownership of lea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ign flexible learning environments and varied methods of instruction that address student needs as they a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ultiple Measures of Learning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 a variety of assessment tools that inform instruction and monitor student achiev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lyze data to personalize and guide student lea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clude students as partners in developing and assessing the learning proc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76320" y="6172200"/>
            <a:ext cx="1828800" cy="609480"/>
          </a:xfrm>
          <a:prstGeom prst="ellipse">
            <a:avLst/>
          </a:prstGeom>
          <a:solidFill>
            <a:srgbClr val="b9cde5">
              <a:alpha val="8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ademic Excell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2819520" y="6172200"/>
            <a:ext cx="1828800" cy="609480"/>
          </a:xfrm>
          <a:prstGeom prst="ellipse">
            <a:avLst/>
          </a:prstGeom>
          <a:solidFill>
            <a:srgbClr val="00b050">
              <a:alpha val="8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velopmental Respons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5486400" y="6172200"/>
            <a:ext cx="1828800" cy="609480"/>
          </a:xfrm>
          <a:prstGeom prst="ellipse">
            <a:avLst/>
          </a:prstGeom>
          <a:solidFill>
            <a:srgbClr val="ff9900">
              <a:alpha val="83000"/>
            </a:srgbClr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cial Equ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TandL.jpg">
            <a:hlinkClick r:id="" action="ppaction://hlinkshowjump?jump=firstslide"/>
          </p:cNvPr>
          <p:cNvPicPr/>
          <p:nvPr/>
        </p:nvPicPr>
        <p:blipFill>
          <a:blip r:embed="rId16"/>
          <a:stretch/>
        </p:blipFill>
        <p:spPr>
          <a:xfrm>
            <a:off x="8077320" y="6095880"/>
            <a:ext cx="726840" cy="66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31296-49DE-4C8B-83FC-78D8AEFEEE07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Developmental Responsiv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commitment of North Rockland Central School District i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uild and strengthen positive relationships amongst students, parents and staff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velop relationships that are grounded in loyalty and shared educational value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mote learning communities which foster academic achievement and create socially responsible learne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rth Rockland CSD wi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ld clear, positive expectations for students’ academic and social succes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upport student transitions through clear, current and consistent communication and decision-making informed by multiple sources of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6"/>
          <p:cNvSpPr/>
          <p:nvPr/>
        </p:nvSpPr>
        <p:spPr>
          <a:xfrm>
            <a:off x="152280" y="6172200"/>
            <a:ext cx="1828800" cy="609480"/>
          </a:xfrm>
          <a:prstGeom prst="ellipse">
            <a:avLst/>
          </a:prstGeom>
          <a:solidFill>
            <a:srgbClr val="b9cde5">
              <a:alpha val="8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ademic Excell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2895480" y="6172200"/>
            <a:ext cx="1828800" cy="609480"/>
          </a:xfrm>
          <a:prstGeom prst="ellipse">
            <a:avLst/>
          </a:prstGeom>
          <a:solidFill>
            <a:srgbClr val="00b050">
              <a:alpha val="8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velopmental Respons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5562720" y="6172200"/>
            <a:ext cx="1828800" cy="609480"/>
          </a:xfrm>
          <a:prstGeom prst="ellipse">
            <a:avLst/>
          </a:prstGeom>
          <a:solidFill>
            <a:srgbClr val="ff9900">
              <a:alpha val="83000"/>
            </a:srgbClr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cial Equ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TandL.jpg">
            <a:hlinkClick r:id="" action="ppaction://hlinkshowjump?jump=firstslide"/>
          </p:cNvPr>
          <p:cNvPicPr/>
          <p:nvPr/>
        </p:nvPicPr>
        <p:blipFill>
          <a:blip r:embed="rId7"/>
          <a:stretch/>
        </p:blipFill>
        <p:spPr>
          <a:xfrm>
            <a:off x="8077320" y="6095880"/>
            <a:ext cx="726840" cy="66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170D2-5C75-463D-88BE-DBA83B0AA8B8}" type="datetime1">
              <a:rPr lang="en-US"/>
              <a:t>07/30/26</a:t>
            </a:fld>
          </a:p>
        </p:txBody>
      </p:sp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Social Equ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600" y="10666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ccess and Time &amp; Opportunity to 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ovide all stud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qual access to a well-prepared,  qualified staff committed to NRCSD’s mission and go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 rich learning environment that includes standards-based instru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Time and opportunity to learn through academic and social-emotional interventions and accel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eadership and recognition opportunit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ploratory programs, sports, clubs and enrichment activit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Safety, Resilience &amp; Health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ovide all stud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 fair, safe, healthy and engaging environ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 school/staff that utilizes a positive discipline mod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Civic and character edu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ccess to adult mentors and counsel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ccess to school and community health and social servi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3"/>
          <p:cNvSpPr/>
          <p:nvPr/>
        </p:nvSpPr>
        <p:spPr>
          <a:xfrm>
            <a:off x="152280" y="6172200"/>
            <a:ext cx="1828800" cy="609480"/>
          </a:xfrm>
          <a:prstGeom prst="ellipse">
            <a:avLst/>
          </a:prstGeom>
          <a:solidFill>
            <a:srgbClr val="b9cde5">
              <a:alpha val="8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ademic Excell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2895480" y="6172200"/>
            <a:ext cx="1828800" cy="609480"/>
          </a:xfrm>
          <a:prstGeom prst="ellipse">
            <a:avLst/>
          </a:prstGeom>
          <a:solidFill>
            <a:srgbClr val="00b050">
              <a:alpha val="8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velopmental Respons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"/>
          <p:cNvSpPr/>
          <p:nvPr/>
        </p:nvSpPr>
        <p:spPr>
          <a:xfrm>
            <a:off x="5562720" y="6172200"/>
            <a:ext cx="1828800" cy="609480"/>
          </a:xfrm>
          <a:prstGeom prst="ellipse">
            <a:avLst/>
          </a:prstGeom>
          <a:solidFill>
            <a:srgbClr val="ff9900">
              <a:alpha val="83000"/>
            </a:srgbClr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cial Equ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TandL.jpg">
            <a:hlinkClick r:id="" action="ppaction://hlinkshowjump?jump=firstslide"/>
          </p:cNvPr>
          <p:cNvPicPr/>
          <p:nvPr/>
        </p:nvPicPr>
        <p:blipFill>
          <a:blip r:embed="rId14"/>
          <a:stretch/>
        </p:blipFill>
        <p:spPr>
          <a:xfrm>
            <a:off x="8077320" y="6095880"/>
            <a:ext cx="726840" cy="66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0CE82-DB0C-4712-A52D-38BE5B864C5D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Grades: How things have chang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9159840" cy="51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CD13A-0AB2-4CEA-AA7D-171AF04F34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empus Sans ITC"/>
              </a:rPr>
              <a:t>PDPT Surve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ccess the surve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should log into eChalk, onc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email inbox, click on the "My School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 on the left, scroll down to find the link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rvey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RCSD Interests/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rv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52C2B-D520-4573-8043-029B6F4053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Tempus Sans ITC"/>
              </a:rPr>
              <a:t>Finish Stro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2705040" cy="365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9CD96-0EE9-4620-9E40-903917CF61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Staff Development Day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May 10,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cus Ques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do we assess student work in regards to our course expectations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How do you grade student work in your course/class? What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oce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we have in place to lead students towards ou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How do your assessments and grading practices assist students in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progr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ward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o create action plans on assessment practices by course in preparation for the 2010-2011 schoo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y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Prog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8A400-9FAD-4B85-9188-FCA7441C29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empus Sans ITC"/>
              </a:rPr>
              <a:t>NR Community of Learn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hree Critical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we g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close the ga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38588-FF70-43F0-9A60-993FB48B17FF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North Rockland High School</a:t>
            </a:r>
            <a:br>
              <a:rPr sz="4000"/>
            </a:b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SMART Goals</a:t>
            </a:r>
            <a:br>
              <a:rPr sz="4000"/>
            </a:b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2009-2010</a:t>
            </a:r>
            <a:br>
              <a:rPr sz="4000"/>
            </a:b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“Better Students, Better Citizen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A. Graduation Rates – update with August graduates and revised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 To improve the graduation for all students by 6 percentage points from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82%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for the 2009 graduating class to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88%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for the 2010 graduating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23880-6F05-4516-A1FD-2040A96947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85800" y="631800"/>
          <a:ext cx="7696080" cy="5365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31800"/>
                    <a:ext cx="769608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F05EC-0F93-4ADB-933C-5270E9976E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Awareness Stage </a:t>
            </a:r>
            <a:r>
              <a:rPr b="0" lang="en-US" sz="6000" spc="-1" strike="noStrike">
                <a:solidFill>
                  <a:srgbClr val="008000"/>
                </a:solidFill>
                <a:latin typeface="Tempus Sans ITC"/>
                <a:ea typeface="Arial"/>
              </a:rPr>
              <a:t>→ </a:t>
            </a:r>
            <a:br>
              <a:rPr sz="6000"/>
            </a:br>
            <a:r>
              <a:rPr b="0" lang="en-US" sz="6000" spc="-1" strike="noStrike">
                <a:solidFill>
                  <a:srgbClr val="008000"/>
                </a:solidFill>
                <a:latin typeface="Tempus Sans ITC"/>
                <a:ea typeface="Arial"/>
              </a:rPr>
              <a:t>S</a:t>
            </a: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trategic St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empus Sans ITC"/>
              </a:rPr>
              <a:t>Action Ste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Course Expect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big ideas/endur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s in a cour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54EE1-E8B1-4A3B-8A90-D43999313F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Awareness Stage </a:t>
            </a:r>
            <a:r>
              <a:rPr b="0" lang="en-US" sz="6000" spc="-1" strike="noStrike">
                <a:solidFill>
                  <a:srgbClr val="008000"/>
                </a:solidFill>
                <a:latin typeface="Tempus Sans ITC"/>
                <a:ea typeface="Arial"/>
              </a:rPr>
              <a:t>→ </a:t>
            </a:r>
            <a:br>
              <a:rPr sz="6000"/>
            </a:br>
            <a:r>
              <a:rPr b="0" lang="en-US" sz="6000" spc="-1" strike="noStrike">
                <a:solidFill>
                  <a:srgbClr val="008000"/>
                </a:solidFill>
                <a:latin typeface="Tempus Sans ITC"/>
                <a:ea typeface="Arial"/>
              </a:rPr>
              <a:t>S</a:t>
            </a:r>
            <a:r>
              <a:rPr b="0" lang="en-US" sz="6000" spc="-1" strike="noStrike">
                <a:solidFill>
                  <a:srgbClr val="008000"/>
                </a:solidFill>
                <a:latin typeface="Tempus Sans ITC"/>
              </a:rPr>
              <a:t>trategic St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empus Sans ITC"/>
              </a:rPr>
              <a:t>Action Ste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Produc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vidence of accomplishment will you collect from students and assess?  This will relate explicitly to the Course Expec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D132D-398B-4B08-85FD-95B72B32A3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3:20:15Z</dcterms:created>
  <dc:creator>North Rockland High School</dc:creator>
  <dc:description/>
  <dc:language>en-US</dc:language>
  <cp:lastModifiedBy>North Rockland High School</cp:lastModifiedBy>
  <dcterms:modified xsi:type="dcterms:W3CDTF">2010-05-10T13:32:16Z</dcterms:modified>
  <cp:revision>18</cp:revision>
  <dc:subject/>
  <dc:title>NRHS – 2008 Grade 10</dc:title>
</cp:coreProperties>
</file>